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C49-7B21-4C7C-8F7E-73B8A642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594-25FB-4B03-BFCB-41643F6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5F6-974F-4882-9626-AD27707E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C69-B7AC-4D8D-82ED-5034EBF4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508-242E-472B-A238-E9AE930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CFF-52C4-45E8-932D-DE4BA555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F25-7959-4275-9721-FA9D8F7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F72-E0C5-471A-B54F-4C99153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CEF-287A-4C41-A55D-DA021B8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61D-532C-413C-9A54-6DB9EAEF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C73-689B-4DD1-A372-0BC71A2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B12-56DC-40C1-A9BF-073C6B7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853-956F-4C3B-9A1D-4FE786497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645000"/>
            <a:ext cx="80265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дование гласных в корне сл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А) Напиши, о каком ещё из семи чудес света ты знаешь. В рассказе употреби слова, где есть корни с чередованием гласных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Б)  Написать мини-сочинение «Готовлюсь к приходу гостей»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. Что изучает фонетика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2. Что вы можете сказать об     орфоэпии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3. Что такое тезис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4. Какое письмо мы называем поморфемным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5. Что мы называем морфемой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Что мы называем чередованием?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Если после корня – А,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 корне будет И всегда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от пример, запоминай: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Ноги вытер? Вытирай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3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4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Times New Roman"/>
              </a:rPr>
              <a:t>1.Помочь усвоить новую тему нам поможет интересная девочка. А как её зовут, вы скажете, если будете внимательно слушать стихотворение.</a:t>
            </a:r>
            <a:endParaRPr b="1" lang="en-US" sz="2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Девочка очень аккуратная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Хорошо вс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Всю грязь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отд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Пыль везд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ст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зап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Так устает, что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мирает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от усталости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о когда сердится, то говорит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"Когда все уберу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Грязь отдеру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адо пыль ст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зап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е хочу! Я так устала, что могу умереть!"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Как зовут девочку?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1285920"/>
            <a:ext cx="10087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Девочку зовут 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5. Итоги урока. Рефлексия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Пользователь</cp:lastModifiedBy>
  <dcterms:modified xsi:type="dcterms:W3CDTF">2001-12-31T22:11:25Z</dcterms:modified>
  <cp:revision>35</cp:revision>
  <dc:subject/>
  <dc:title>Правописание не с деепричастиями</dc:title>
</cp:coreProperties>
</file>